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D877-E154-4CAD-BABE-2BB53977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53F2-FCA4-475C-BD4A-1C49F958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EC6-3B72-49CE-A32B-7E120FAB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882-8C00-4E86-B366-66E846E8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1D0E-1D24-44E9-BF93-314593B0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DBED-1598-4CA1-9527-8150053F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9CA0-FC42-4C78-A3C8-286CC358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CF06-1FFB-46C2-912E-FCB38790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CFE2-4283-4E85-A349-A593DF0A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07D6-66A8-42B8-96B0-8B9BA268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D9B3-AB37-4F22-A740-FF07983F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45C2-6864-4F07-99D9-598BF23F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C2E8-80A9-48E6-9E3A-A1730C5BF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06520"/>
            <a:ext cx="89913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2826" t="0" r="0" b="17587"/>
          <a:stretch/>
        </p:blipFill>
        <p:spPr>
          <a:xfrm>
            <a:off x="152280" y="152280"/>
            <a:ext cx="89154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0:09:13Z</dcterms:created>
  <dc:creator>fx</dc:creator>
  <dc:description/>
  <dc:language>en-US</dc:language>
  <cp:lastModifiedBy>fx-Russell</cp:lastModifiedBy>
  <dcterms:modified xsi:type="dcterms:W3CDTF">2010-04-17T02:06:48Z</dcterms:modified>
  <cp:revision>11</cp:revision>
  <dc:subject/>
  <dc:title>PR2 Gripper Anodize Stripping Rework Procedure</dc:title>
</cp:coreProperties>
</file>