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BF74-ECCE-45DE-B3BF-D419FFD03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604E-9CB1-4C83-B591-E24362A6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84CF-70E9-49D5-A216-79CF940E1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FBA6-EB20-4E02-B7C3-52D8A3DE9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A43B-46B1-432E-82F4-61FA9AAE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B2D2-9A1A-4AA9-A4D6-A72D7BDE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60B3-7E6E-4914-BBAA-8824F3FE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1D07-93D4-450C-AFE5-80FB61CD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5062-6F3B-42E6-B4BE-2C38B537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734A-E4D0-4CFB-BB01-56C881E4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FFF6-AAC9-49EE-AADA-E44190E0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64DD-C911-48AE-B6AA-75B73456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C2B5-15C4-4638-8451-57C9BBDAC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320" y="506520"/>
            <a:ext cx="8991360" cy="58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22826" t="0" r="0" b="17587"/>
          <a:stretch/>
        </p:blipFill>
        <p:spPr>
          <a:xfrm>
            <a:off x="152280" y="152280"/>
            <a:ext cx="891540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00:09:13Z</dcterms:created>
  <dc:creator>fx</dc:creator>
  <dc:description/>
  <dc:language>en-US</dc:language>
  <cp:lastModifiedBy>fx-Russell</cp:lastModifiedBy>
  <dcterms:modified xsi:type="dcterms:W3CDTF">2010-04-17T02:06:48Z</dcterms:modified>
  <cp:revision>11</cp:revision>
  <dc:subject/>
  <dc:title>PR2 Gripper Anodize Stripping Rework Procedure</dc:title>
</cp:coreProperties>
</file>