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CB5E-6937-4DF4-86C8-56B426BD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1B90-BBC2-4B6A-9C2D-A2666FAA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0BB4-6D29-4252-926D-93ABC0F2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22C5-D08B-4A06-94FE-8CEB4FDD4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F580-681C-42AF-8119-C38FCD91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564D-6724-4DDA-AC29-57352FB1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3B5A-8919-4247-ACB5-DD3E90DA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2D15-A60D-424A-BF67-BAEBE5B9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4C5D-69A1-4260-AA16-E73A9624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60EF-0C61-4971-BD03-342FD778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BBCB-42B0-484E-BEB1-380C392A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394F-A2BB-4FB3-96B1-41BC7BAA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F724-CB9E-406A-B232-E02F52D62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506520"/>
            <a:ext cx="899136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22826" t="0" r="0" b="17587"/>
          <a:stretch/>
        </p:blipFill>
        <p:spPr>
          <a:xfrm>
            <a:off x="152280" y="152280"/>
            <a:ext cx="89154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0:09:13Z</dcterms:created>
  <dc:creator>fx</dc:creator>
  <dc:description/>
  <dc:language>en-US</dc:language>
  <cp:lastModifiedBy>fx-Russell</cp:lastModifiedBy>
  <dcterms:modified xsi:type="dcterms:W3CDTF">2010-04-17T02:06:48Z</dcterms:modified>
  <cp:revision>11</cp:revision>
  <dc:subject/>
  <dc:title>PR2 Gripper Anodize Stripping Rework Procedure</dc:title>
</cp:coreProperties>
</file>