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18FB-823B-4594-83B3-B511F8AC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4490-8785-481B-B433-F3D9BFAF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5782-30C5-43A5-937A-A17B5E15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DB11-5BC2-4EA6-A8CB-1384674E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5B6B-9C18-4428-8272-469960EC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B9DC-8594-469F-A7C3-2FC8A9D2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047B-D294-4299-9F08-2E67CF14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086C-4B70-485F-BAF1-E1F1F8FC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DE1-871C-425A-A5C2-33CF3374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D30E-C2C8-4FC3-91D8-F3C6D328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9DBB-7B9E-4A0E-A3AB-F97D2605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2E7B-6FDA-43AB-A2E8-E9A96EE7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EB62-E056-4DC4-9B19-5F0F23C63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506520"/>
            <a:ext cx="899136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2826" t="0" r="0" b="17587"/>
          <a:stretch/>
        </p:blipFill>
        <p:spPr>
          <a:xfrm>
            <a:off x="152280" y="152280"/>
            <a:ext cx="89154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0:09:13Z</dcterms:created>
  <dc:creator>fx</dc:creator>
  <dc:description/>
  <dc:language>en-US</dc:language>
  <cp:lastModifiedBy>fx-Russell</cp:lastModifiedBy>
  <dcterms:modified xsi:type="dcterms:W3CDTF">2010-04-17T02:06:48Z</dcterms:modified>
  <cp:revision>11</cp:revision>
  <dc:subject/>
  <dc:title>PR2 Gripper Anodize Stripping Rework Procedure</dc:title>
</cp:coreProperties>
</file>