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526A-CAF0-4BCB-850B-476F5CB2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39AE-2747-453F-9E2D-B20240B9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5321-730D-452F-96EA-635E7F21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A54A-BC85-4331-8D1C-F32741FF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B122-40BA-4073-9865-DFB418E1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7101-4538-4E15-8B99-DF984228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E100-491A-4644-96F0-494E6642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8B63-BB59-405C-9F78-E9612413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5B3A-82DB-46DE-8C68-50A67F98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9818-EF6C-4C3B-B619-1920D3F1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754A-667E-4149-9460-879844ED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F2CC-32D7-4BB1-94C0-4A5500A2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A6DB-A5F9-482F-858A-5EF780AA2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506520"/>
            <a:ext cx="899136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2826" t="0" r="0" b="17587"/>
          <a:stretch/>
        </p:blipFill>
        <p:spPr>
          <a:xfrm>
            <a:off x="152280" y="152280"/>
            <a:ext cx="89154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0:09:13Z</dcterms:created>
  <dc:creator>fx</dc:creator>
  <dc:description/>
  <dc:language>en-US</dc:language>
  <cp:lastModifiedBy>fx-Russell</cp:lastModifiedBy>
  <dcterms:modified xsi:type="dcterms:W3CDTF">2010-04-17T02:06:48Z</dcterms:modified>
  <cp:revision>11</cp:revision>
  <dc:subject/>
  <dc:title>PR2 Gripper Anodize Stripping Rework Procedure</dc:title>
</cp:coreProperties>
</file>