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67D7-F612-4CC8-A6E9-1C7AC98A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2011-EF84-4736-9243-D9835661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B442-9ADE-4023-AB17-D9BE6F50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B781-5DDB-4F53-B454-9128DE68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F66-5CAC-4989-9980-4251B95A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2E9-1292-4B36-A724-695686BB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96EF-A209-4CE7-9F1C-9BC3B8EE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5B15-1EF5-4915-84CB-6647B6E7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1AF7-FF40-4A3E-9F6C-06A4D246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E3E1-0612-4858-99D7-CCBF290C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C1DD-AA41-4896-95B2-4EEFD389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76E4-C75A-4A8D-A9E8-6B774202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2548-5DEC-47AD-A313-D81EFA40D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06520"/>
            <a:ext cx="89913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2826" t="0" r="0" b="17587"/>
          <a:stretch/>
        </p:blipFill>
        <p:spPr>
          <a:xfrm>
            <a:off x="152280" y="152280"/>
            <a:ext cx="89154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0:09:13Z</dcterms:created>
  <dc:creator>fx</dc:creator>
  <dc:description/>
  <dc:language>en-US</dc:language>
  <cp:lastModifiedBy>fx-Russell</cp:lastModifiedBy>
  <dcterms:modified xsi:type="dcterms:W3CDTF">2010-04-17T02:06:48Z</dcterms:modified>
  <cp:revision>11</cp:revision>
  <dc:subject/>
  <dc:title>PR2 Gripper Anodize Stripping Rework Procedure</dc:title>
</cp:coreProperties>
</file>